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41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629-D177-405F-94D0-BEA513F8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570-64F2-474E-A466-7422E33A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C66-737B-4B15-9242-B4523FF4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023-D416-48F7-B5D0-8847FF08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3D9-4E1C-4581-BD30-9F02B386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0FA-BD39-42F5-B042-49567C2D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B71C-86C0-4C40-A470-8FF8B235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94EE-0AA5-4D17-87ED-CEF5D77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0685-C3F3-483A-9B79-C0891FFF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5384-3BD4-43F3-B133-6A81D1A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BE9-BCA3-45FD-8581-BDDF9F3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53E-D6A1-47CA-AB7B-C335945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5014-5748-4DB9-A012-C92B655C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B7B-62AE-45FD-AFC6-B31BEF6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ECFE-C704-4008-909C-4C7478B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C607-FE79-4C08-B116-F81C4DB4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DD7A-E361-4F0A-8DF0-E9139921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2411-73F1-4AD3-AF1E-8C129739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A6BE-F110-4BBE-9EF2-C5F324FE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A946-D735-42AC-9BB2-92836078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98E0-7D11-4685-B686-4BD29EE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BB13-5B29-4107-84CF-C6A132B8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E59-2ACE-45FD-84E8-C9BC13F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3B9D-8AF7-4B3F-AD4B-B06E39F4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5167-358B-4232-92AB-B1CBFDD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8639-C57A-4E24-98EA-300B267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4C39-F8D5-428D-A9AA-7DB494E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8D89-FFC1-47AB-835B-5B6320F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D8BA-B332-4EBB-86CF-1C22DEDA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2ABB-EB97-4C40-9063-05ED1A16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FC79-7750-41D9-8324-0BD52908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5540-5B6C-4E30-8830-13FF39E4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CB9B-31D7-470B-9BA6-6BE3D457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0B0-FEBD-44AB-A4D8-7B8C05B1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8A31-563F-4646-84ED-1A3DE67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87B0-9258-4165-AD70-E68C7C4A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E1F5-B4F7-4425-8066-022A06F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4E79-24D9-4DA7-9682-E329397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CB33-F225-4902-A7CE-2B81DC0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0EE60-8DA5-4434-AAE4-4C9B2F2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178F-982D-4BEF-8605-837338E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68A8-43DA-417C-A6CF-85996E17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14AA-9EFB-4D25-900C-DD8FF852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E81B-3348-4309-9E56-8AA1561C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4ED-5D43-4D0C-B903-35CBF2C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F012-F26F-4FAB-82A9-06CFB4D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373C-40A1-42C1-841B-6BC6D675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D7D2-065A-4222-881E-FC6C667F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C035-1F11-438D-A0DB-200C627E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6926-2CC1-4B7D-A714-581E364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2F78-0ED0-4F9D-B8B7-D3D2218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BE81-5829-4190-98C5-E1302C3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78B2D-94DC-4C33-B94E-7EABB76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466C-77A8-4246-BCEE-D3C362DD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0495F-B9E4-433B-9F36-878A3F60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3F0-98F9-4B0D-9577-DABFAE8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3C65-20D7-4EC0-8B58-4AA53292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3F64-521F-4E47-A779-4B328959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3D8D-E84F-4A8B-83B7-94E058A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B037-29C7-409E-A191-1A933D7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FDA1-6E0E-4FF3-8E41-31F1963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5A274-CF92-48E4-B532-4346D00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27CF2-93F1-4E1B-9437-B2AC4E35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E71D-75EC-4A30-8B35-EBA0F55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00638-A753-4BBC-9FB8-99992B6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C503-D280-493D-87F2-A53BED3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DF8-9943-4EA1-A133-4CF1F1A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A375-9244-4377-89A2-54281154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D174-6B85-4F34-B50C-3DE05C29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18A2-56A4-4643-98F1-DDE10066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D35-689C-4C98-9BF0-128BE4F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A57-B7FF-4A81-A950-70E00BB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3FE-D532-4A28-9FC0-16F0CBEEA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91E6-A9C5-4FEE-A6C5-537FDB9945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643-64FF-4932-9FB1-51A003FE2A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267-06B7-46C5-973A-A7C4CAA7E2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2AF-1881-4684-BDB6-707ED79EF58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042-2FF1-4E64-9360-7FCE0230A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6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76520" y="2133720"/>
            <a:ext cx="55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21.2.2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公式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304920" y="457200"/>
            <a:ext cx="850716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一元二次方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的根由方程的系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确定．将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入式子就得到方程的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它解一元二次方程的方法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公式法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8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28893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1"/>
          <p:cNvGrpSpPr/>
          <p:nvPr/>
        </p:nvGrpSpPr>
        <p:grpSpPr>
          <a:xfrm>
            <a:off x="1332000" y="1125360"/>
            <a:ext cx="5788080" cy="625320"/>
            <a:chOff x="1332000" y="1125360"/>
            <a:chExt cx="5788080" cy="625320"/>
          </a:xfrm>
        </p:grpSpPr>
        <p:sp>
          <p:nvSpPr>
            <p:cNvPr id="346" name="Text Box 3"/>
            <p:cNvSpPr/>
            <p:nvPr/>
          </p:nvSpPr>
          <p:spPr>
            <a:xfrm>
              <a:off x="1332000" y="1152360"/>
              <a:ext cx="29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例 </a:t>
              </a: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1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解方程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Object 10" descr=""/>
            <p:cNvPicPr/>
            <p:nvPr/>
          </p:nvPicPr>
          <p:blipFill>
            <a:blip r:embed="rId1"/>
            <a:stretch/>
          </p:blipFill>
          <p:spPr>
            <a:xfrm>
              <a:off x="3952800" y="1125360"/>
              <a:ext cx="3167280" cy="6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Text Box 4"/>
          <p:cNvSpPr/>
          <p:nvPr/>
        </p:nvSpPr>
        <p:spPr>
          <a:xfrm>
            <a:off x="7200" y="191628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8"/>
          <p:cNvGrpSpPr/>
          <p:nvPr/>
        </p:nvGrpSpPr>
        <p:grpSpPr>
          <a:xfrm>
            <a:off x="1042920" y="5300640"/>
            <a:ext cx="4141440" cy="641520"/>
            <a:chOff x="1042920" y="5300640"/>
            <a:chExt cx="4141440" cy="641520"/>
          </a:xfrm>
        </p:grpSpPr>
        <p:sp>
          <p:nvSpPr>
            <p:cNvPr id="350" name="Text Box 7"/>
            <p:cNvSpPr/>
            <p:nvPr/>
          </p:nvSpPr>
          <p:spPr>
            <a:xfrm>
              <a:off x="1042920" y="5300640"/>
              <a:ext cx="142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即 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Object 16" descr=""/>
            <p:cNvPicPr/>
            <p:nvPr/>
          </p:nvPicPr>
          <p:blipFill>
            <a:blip r:embed="rId2"/>
            <a:stretch/>
          </p:blipFill>
          <p:spPr>
            <a:xfrm>
              <a:off x="2445480" y="5351400"/>
              <a:ext cx="2738880" cy="5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3"/>
          <p:cNvGrpSpPr/>
          <p:nvPr/>
        </p:nvGrpSpPr>
        <p:grpSpPr>
          <a:xfrm>
            <a:off x="1619280" y="1916280"/>
            <a:ext cx="5400720" cy="647640"/>
            <a:chOff x="1619280" y="1916280"/>
            <a:chExt cx="5400720" cy="647640"/>
          </a:xfrm>
        </p:grpSpPr>
        <p:pic>
          <p:nvPicPr>
            <p:cNvPr id="353" name="Object 12" descr=""/>
            <p:cNvPicPr/>
            <p:nvPr/>
          </p:nvPicPr>
          <p:blipFill>
            <a:blip r:embed="rId3"/>
            <a:stretch/>
          </p:blipFill>
          <p:spPr>
            <a:xfrm>
              <a:off x="2771640" y="1987560"/>
              <a:ext cx="4248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2"/>
            <p:cNvSpPr/>
            <p:nvPr/>
          </p:nvSpPr>
          <p:spPr>
            <a:xfrm>
              <a:off x="1619280" y="191628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Object 24" descr=""/>
          <p:cNvPicPr/>
          <p:nvPr/>
        </p:nvPicPr>
        <p:blipFill>
          <a:blip r:embed="rId4"/>
          <a:stretch/>
        </p:blipFill>
        <p:spPr>
          <a:xfrm>
            <a:off x="1476360" y="2637000"/>
            <a:ext cx="6732720" cy="11826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5"/>
          <p:cNvSpPr/>
          <p:nvPr/>
        </p:nvSpPr>
        <p:spPr>
          <a:xfrm>
            <a:off x="7239240" y="262728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1014120" y="3540240"/>
            <a:ext cx="469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方程有两个不等的实数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bject 27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4103640" cy="1261800"/>
          </a:xfrm>
          <a:prstGeom prst="rect">
            <a:avLst/>
          </a:prstGeom>
          <a:ln w="0">
            <a:noFill/>
          </a:ln>
        </p:spPr>
      </p:pic>
      <p:pic>
        <p:nvPicPr>
          <p:cNvPr id="359" name="Object 29" descr=""/>
          <p:cNvPicPr/>
          <p:nvPr/>
        </p:nvPicPr>
        <p:blipFill>
          <a:blip r:embed="rId6"/>
          <a:stretch/>
        </p:blipFill>
        <p:spPr>
          <a:xfrm>
            <a:off x="4284720" y="4005360"/>
            <a:ext cx="4572000" cy="128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2998080" y="3524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用公式法解一元二次方程的一般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1"/>
          <p:cNvGrpSpPr/>
          <p:nvPr/>
        </p:nvGrpSpPr>
        <p:grpSpPr>
          <a:xfrm>
            <a:off x="640440" y="4024440"/>
            <a:ext cx="7244280" cy="1218960"/>
            <a:chOff x="640440" y="4024440"/>
            <a:chExt cx="7244280" cy="1218960"/>
          </a:xfrm>
        </p:grpSpPr>
        <p:pic>
          <p:nvPicPr>
            <p:cNvPr id="362" name="Object 16" descr=""/>
            <p:cNvPicPr/>
            <p:nvPr/>
          </p:nvPicPr>
          <p:blipFill>
            <a:blip r:embed="rId1"/>
            <a:stretch/>
          </p:blipFill>
          <p:spPr>
            <a:xfrm>
              <a:off x="3924000" y="4024440"/>
              <a:ext cx="39607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Rectangle 19"/>
            <p:cNvSpPr/>
            <p:nvPr/>
          </p:nvSpPr>
          <p:spPr>
            <a:xfrm>
              <a:off x="640440" y="4402080"/>
              <a:ext cx="283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代入求根公式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9"/>
          <p:cNvGrpSpPr/>
          <p:nvPr/>
        </p:nvGrpSpPr>
        <p:grpSpPr>
          <a:xfrm>
            <a:off x="93960" y="2486160"/>
            <a:ext cx="5226120" cy="627480"/>
            <a:chOff x="93960" y="2486160"/>
            <a:chExt cx="5226120" cy="627480"/>
          </a:xfrm>
        </p:grpSpPr>
        <p:sp>
          <p:nvSpPr>
            <p:cNvPr id="365" name="Rectangle 15"/>
            <p:cNvSpPr/>
            <p:nvPr/>
          </p:nvSpPr>
          <p:spPr>
            <a:xfrm>
              <a:off x="93960" y="2532240"/>
              <a:ext cx="522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求出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值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Object 22" descr=""/>
            <p:cNvPicPr/>
            <p:nvPr/>
          </p:nvPicPr>
          <p:blipFill>
            <a:blip r:embed="rId2"/>
            <a:stretch/>
          </p:blipFill>
          <p:spPr>
            <a:xfrm>
              <a:off x="1965600" y="2486160"/>
              <a:ext cx="1657080" cy="61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26"/>
          <p:cNvGrpSpPr/>
          <p:nvPr/>
        </p:nvGrpSpPr>
        <p:grpSpPr>
          <a:xfrm>
            <a:off x="2044080" y="1413000"/>
            <a:ext cx="5696640" cy="625320"/>
            <a:chOff x="2044080" y="1413000"/>
            <a:chExt cx="5696640" cy="625320"/>
          </a:xfrm>
        </p:grpSpPr>
        <p:sp>
          <p:nvSpPr>
            <p:cNvPr id="368" name="Rectangle 13"/>
            <p:cNvSpPr/>
            <p:nvPr/>
          </p:nvSpPr>
          <p:spPr>
            <a:xfrm>
              <a:off x="2044080" y="1413000"/>
              <a:ext cx="530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把方程化成一般形式，并写出              的值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Object 23" descr=""/>
            <p:cNvPicPr/>
            <p:nvPr/>
          </p:nvPicPr>
          <p:blipFill>
            <a:blip r:embed="rId3"/>
            <a:stretch/>
          </p:blipFill>
          <p:spPr>
            <a:xfrm>
              <a:off x="6372360" y="1413000"/>
              <a:ext cx="1368360" cy="6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Group 29"/>
          <p:cNvGrpSpPr/>
          <p:nvPr/>
        </p:nvGrpSpPr>
        <p:grpSpPr>
          <a:xfrm>
            <a:off x="894960" y="5692680"/>
            <a:ext cx="4253400" cy="689040"/>
            <a:chOff x="894960" y="5692680"/>
            <a:chExt cx="4253400" cy="689040"/>
          </a:xfrm>
        </p:grpSpPr>
        <p:sp>
          <p:nvSpPr>
            <p:cNvPr id="371" name="Rectangle 21"/>
            <p:cNvSpPr/>
            <p:nvPr/>
          </p:nvSpPr>
          <p:spPr>
            <a:xfrm>
              <a:off x="894960" y="5748120"/>
              <a:ext cx="249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写出方程的解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Object 27" descr=""/>
            <p:cNvPicPr/>
            <p:nvPr/>
          </p:nvPicPr>
          <p:blipFill>
            <a:blip r:embed="rId4"/>
            <a:stretch/>
          </p:blipFill>
          <p:spPr>
            <a:xfrm>
              <a:off x="3924360" y="5692680"/>
              <a:ext cx="1224000" cy="68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Group 38"/>
          <p:cNvGrpSpPr/>
          <p:nvPr/>
        </p:nvGrpSpPr>
        <p:grpSpPr>
          <a:xfrm>
            <a:off x="826920" y="3382920"/>
            <a:ext cx="7632720" cy="555480"/>
            <a:chOff x="826920" y="3382920"/>
            <a:chExt cx="7632720" cy="555480"/>
          </a:xfrm>
        </p:grpSpPr>
        <p:sp>
          <p:nvSpPr>
            <p:cNvPr id="374" name="Text Box 33"/>
            <p:cNvSpPr/>
            <p:nvPr/>
          </p:nvSpPr>
          <p:spPr>
            <a:xfrm>
              <a:off x="826920" y="3395520"/>
              <a:ext cx="76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特别注意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: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当                       时无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Object 32" descr=""/>
            <p:cNvPicPr/>
            <p:nvPr/>
          </p:nvPicPr>
          <p:blipFill>
            <a:blip r:embed="rId5"/>
            <a:stretch/>
          </p:blipFill>
          <p:spPr>
            <a:xfrm>
              <a:off x="2881080" y="3382920"/>
              <a:ext cx="2114640" cy="55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6" name="Object 35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31"/>
          <p:cNvGrpSpPr/>
          <p:nvPr/>
        </p:nvGrpSpPr>
        <p:grpSpPr>
          <a:xfrm>
            <a:off x="760320" y="1197000"/>
            <a:ext cx="5886720" cy="647640"/>
            <a:chOff x="760320" y="1197000"/>
            <a:chExt cx="5886720" cy="647640"/>
          </a:xfrm>
        </p:grpSpPr>
        <p:sp>
          <p:nvSpPr>
            <p:cNvPr id="378" name="Text Box 3"/>
            <p:cNvSpPr/>
            <p:nvPr/>
          </p:nvSpPr>
          <p:spPr>
            <a:xfrm>
              <a:off x="760320" y="1247760"/>
              <a:ext cx="386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例 </a:t>
              </a: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2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解方程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Object 19" descr=""/>
            <p:cNvPicPr/>
            <p:nvPr/>
          </p:nvPicPr>
          <p:blipFill>
            <a:blip r:embed="rId1"/>
            <a:stretch/>
          </p:blipFill>
          <p:spPr>
            <a:xfrm>
              <a:off x="3983040" y="1197000"/>
              <a:ext cx="26640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25"/>
          <p:cNvGrpSpPr/>
          <p:nvPr/>
        </p:nvGrpSpPr>
        <p:grpSpPr>
          <a:xfrm>
            <a:off x="1209600" y="2048040"/>
            <a:ext cx="6399000" cy="647640"/>
            <a:chOff x="1209600" y="2048040"/>
            <a:chExt cx="6399000" cy="647640"/>
          </a:xfrm>
        </p:grpSpPr>
        <p:sp>
          <p:nvSpPr>
            <p:cNvPr id="381" name="Text Box 4"/>
            <p:cNvSpPr/>
            <p:nvPr/>
          </p:nvSpPr>
          <p:spPr>
            <a:xfrm>
              <a:off x="1209600" y="2090880"/>
              <a:ext cx="371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化简为一般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Object 20" descr=""/>
            <p:cNvPicPr/>
            <p:nvPr/>
          </p:nvPicPr>
          <p:blipFill>
            <a:blip r:embed="rId2"/>
            <a:stretch/>
          </p:blipFill>
          <p:spPr>
            <a:xfrm>
              <a:off x="4368600" y="2048040"/>
              <a:ext cx="32400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22"/>
          <p:cNvGrpSpPr/>
          <p:nvPr/>
        </p:nvGrpSpPr>
        <p:grpSpPr>
          <a:xfrm>
            <a:off x="799200" y="2781360"/>
            <a:ext cx="6250680" cy="685800"/>
            <a:chOff x="799200" y="2781360"/>
            <a:chExt cx="6250680" cy="685800"/>
          </a:xfrm>
        </p:grpSpPr>
        <p:sp>
          <p:nvSpPr>
            <p:cNvPr id="384" name="Rectangle 9"/>
            <p:cNvSpPr/>
            <p:nvPr/>
          </p:nvSpPr>
          <p:spPr>
            <a:xfrm>
              <a:off x="799200" y="2841840"/>
              <a:ext cx="24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这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Object 21" descr=""/>
            <p:cNvPicPr/>
            <p:nvPr/>
          </p:nvPicPr>
          <p:blipFill>
            <a:blip r:embed="rId3"/>
            <a:stretch/>
          </p:blipFill>
          <p:spPr>
            <a:xfrm>
              <a:off x="2657160" y="2781360"/>
              <a:ext cx="43927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Rectangle 24"/>
          <p:cNvSpPr/>
          <p:nvPr/>
        </p:nvSpPr>
        <p:spPr>
          <a:xfrm>
            <a:off x="-64080" y="207792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Object 27" descr=""/>
          <p:cNvPicPr/>
          <p:nvPr/>
        </p:nvPicPr>
        <p:blipFill>
          <a:blip r:embed="rId4"/>
          <a:stretch/>
        </p:blipFill>
        <p:spPr>
          <a:xfrm>
            <a:off x="1476360" y="3573360"/>
            <a:ext cx="6384960" cy="187668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28"/>
          <p:cNvGrpSpPr/>
          <p:nvPr/>
        </p:nvGrpSpPr>
        <p:grpSpPr>
          <a:xfrm>
            <a:off x="1405080" y="5562720"/>
            <a:ext cx="3822120" cy="674640"/>
            <a:chOff x="1405080" y="5562720"/>
            <a:chExt cx="3822120" cy="674640"/>
          </a:xfrm>
        </p:grpSpPr>
        <p:sp>
          <p:nvSpPr>
            <p:cNvPr id="389" name="Text Box 29"/>
            <p:cNvSpPr/>
            <p:nvPr/>
          </p:nvSpPr>
          <p:spPr>
            <a:xfrm>
              <a:off x="1405080" y="556272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即 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Object 30" descr=""/>
            <p:cNvPicPr/>
            <p:nvPr/>
          </p:nvPicPr>
          <p:blipFill>
            <a:blip r:embed="rId5"/>
            <a:stretch/>
          </p:blipFill>
          <p:spPr>
            <a:xfrm>
              <a:off x="3028680" y="5580360"/>
              <a:ext cx="2198520" cy="657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2527920" y="198432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解：去括号，化简为一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5"/>
          <p:cNvGrpSpPr/>
          <p:nvPr/>
        </p:nvGrpSpPr>
        <p:grpSpPr>
          <a:xfrm>
            <a:off x="1332000" y="1125360"/>
            <a:ext cx="5761080" cy="668160"/>
            <a:chOff x="1332000" y="1125360"/>
            <a:chExt cx="5761080" cy="668160"/>
          </a:xfrm>
        </p:grpSpPr>
        <p:sp>
          <p:nvSpPr>
            <p:cNvPr id="393" name="Text Box 3"/>
            <p:cNvSpPr/>
            <p:nvPr/>
          </p:nvSpPr>
          <p:spPr>
            <a:xfrm>
              <a:off x="1332000" y="114588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例 </a:t>
              </a: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3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解方程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Object 13" descr=""/>
            <p:cNvPicPr/>
            <p:nvPr/>
          </p:nvPicPr>
          <p:blipFill>
            <a:blip r:embed="rId1"/>
            <a:stretch/>
          </p:blipFill>
          <p:spPr>
            <a:xfrm>
              <a:off x="3851280" y="1125360"/>
              <a:ext cx="32418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Object 17" descr=""/>
          <p:cNvPicPr/>
          <p:nvPr/>
        </p:nvPicPr>
        <p:blipFill>
          <a:blip r:embed="rId2"/>
          <a:stretch/>
        </p:blipFill>
        <p:spPr>
          <a:xfrm>
            <a:off x="1943280" y="2637000"/>
            <a:ext cx="3565440" cy="69660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21"/>
          <p:cNvGrpSpPr/>
          <p:nvPr/>
        </p:nvGrpSpPr>
        <p:grpSpPr>
          <a:xfrm>
            <a:off x="1077120" y="3554280"/>
            <a:ext cx="6015600" cy="587880"/>
            <a:chOff x="1077120" y="3554280"/>
            <a:chExt cx="6015600" cy="587880"/>
          </a:xfrm>
        </p:grpSpPr>
        <p:sp>
          <p:nvSpPr>
            <p:cNvPr id="397" name="Rectangle 22"/>
            <p:cNvSpPr/>
            <p:nvPr/>
          </p:nvSpPr>
          <p:spPr>
            <a:xfrm>
              <a:off x="1077120" y="3560760"/>
              <a:ext cx="24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这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23"/>
                <p:cNvSpPr txBox="1"/>
                <p:nvPr/>
              </p:nvSpPr>
              <p:spPr>
                <a:xfrm>
                  <a:off x="3168720" y="3554280"/>
                  <a:ext cx="392400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9" name="Object 24" descr=""/>
          <p:cNvPicPr/>
          <p:nvPr/>
        </p:nvPicPr>
        <p:blipFill>
          <a:blip r:embed="rId3"/>
          <a:stretch/>
        </p:blipFill>
        <p:spPr>
          <a:xfrm>
            <a:off x="1187280" y="4265640"/>
            <a:ext cx="5586480" cy="125100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6"/>
          <p:cNvGrpSpPr/>
          <p:nvPr/>
        </p:nvGrpSpPr>
        <p:grpSpPr>
          <a:xfrm>
            <a:off x="1189080" y="5749920"/>
            <a:ext cx="3395160" cy="581400"/>
            <a:chOff x="1189080" y="5749920"/>
            <a:chExt cx="3395160" cy="581400"/>
          </a:xfrm>
        </p:grpSpPr>
        <p:sp>
          <p:nvSpPr>
            <p:cNvPr id="401" name="Text Box 6"/>
            <p:cNvSpPr/>
            <p:nvPr/>
          </p:nvSpPr>
          <p:spPr>
            <a:xfrm>
              <a:off x="2069280" y="5749920"/>
              <a:ext cx="251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方程没有实数解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Object 25" descr=""/>
            <p:cNvPicPr/>
            <p:nvPr/>
          </p:nvPicPr>
          <p:blipFill>
            <a:blip r:embed="rId4"/>
            <a:stretch/>
          </p:blipFill>
          <p:spPr>
            <a:xfrm>
              <a:off x="1189080" y="5877000"/>
              <a:ext cx="431280" cy="39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595440" y="177336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用公式法解下列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471600" y="2876400"/>
            <a:ext cx="47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宋体"/>
              </a:rPr>
              <a:t>2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  <a:ea typeface="宋体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宋体"/>
              </a:rPr>
              <a:t>-9x+8=0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471600" y="402444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宋体"/>
              </a:rPr>
              <a:t>9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  <a:ea typeface="宋体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宋体"/>
              </a:rPr>
              <a:t>+6x+1=0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471600" y="51735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宋体"/>
              </a:rPr>
              <a:t>16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  <a:ea typeface="宋体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宋体"/>
              </a:rPr>
              <a:t>+8x=3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9"/>
          <p:cNvGrpSpPr/>
          <p:nvPr/>
        </p:nvGrpSpPr>
        <p:grpSpPr>
          <a:xfrm>
            <a:off x="583200" y="308880"/>
            <a:ext cx="2117160" cy="982080"/>
            <a:chOff x="583200" y="308880"/>
            <a:chExt cx="2117160" cy="982080"/>
          </a:xfrm>
        </p:grpSpPr>
        <p:sp>
          <p:nvSpPr>
            <p:cNvPr id="408" name="Freeform 10"/>
            <p:cNvSpPr/>
            <p:nvPr/>
          </p:nvSpPr>
          <p:spPr>
            <a:xfrm>
              <a:off x="611280" y="802440"/>
              <a:ext cx="2089080" cy="341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bbe0e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11"/>
            <p:cNvGrpSpPr/>
            <p:nvPr/>
          </p:nvGrpSpPr>
          <p:grpSpPr>
            <a:xfrm>
              <a:off x="583200" y="308880"/>
              <a:ext cx="2025720" cy="982080"/>
              <a:chOff x="583200" y="308880"/>
              <a:chExt cx="2025720" cy="982080"/>
            </a:xfrm>
          </p:grpSpPr>
          <p:sp>
            <p:nvSpPr>
              <p:cNvPr id="410" name="Freeform 12"/>
              <p:cNvSpPr/>
              <p:nvPr/>
            </p:nvSpPr>
            <p:spPr>
              <a:xfrm rot="158400">
                <a:off x="702000" y="419040"/>
                <a:ext cx="544680" cy="639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"/>
              <p:cNvSpPr/>
              <p:nvPr/>
            </p:nvSpPr>
            <p:spPr>
              <a:xfrm>
                <a:off x="884520" y="461880"/>
                <a:ext cx="543960" cy="597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cc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4"/>
              <p:cNvSpPr/>
              <p:nvPr/>
            </p:nvSpPr>
            <p:spPr>
              <a:xfrm rot="961200">
                <a:off x="701640" y="333000"/>
                <a:ext cx="273240" cy="68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"/>
              <p:cNvSpPr/>
              <p:nvPr/>
            </p:nvSpPr>
            <p:spPr>
              <a:xfrm>
                <a:off x="974520" y="334080"/>
                <a:ext cx="453960" cy="17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6"/>
              <p:cNvSpPr/>
              <p:nvPr/>
            </p:nvSpPr>
            <p:spPr>
              <a:xfrm>
                <a:off x="657360" y="846000"/>
                <a:ext cx="363240" cy="383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9080">
                <a:solidFill>
                  <a:srgbClr val="3333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 rot="1629000">
                <a:off x="611280" y="1110600"/>
                <a:ext cx="140040" cy="156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1155960" y="376560"/>
                <a:ext cx="136080" cy="4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9"/>
              <p:cNvSpPr/>
              <p:nvPr/>
            </p:nvSpPr>
            <p:spPr>
              <a:xfrm>
                <a:off x="1382040" y="374040"/>
                <a:ext cx="12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8" name="Picture 21" descr="WW_015"/>
          <p:cNvPicPr/>
          <p:nvPr/>
        </p:nvPicPr>
        <p:blipFill>
          <a:blip r:embed="rId1"/>
          <a:stretch/>
        </p:blipFill>
        <p:spPr>
          <a:xfrm>
            <a:off x="7308720" y="515772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4">
            <a:hlinkClick r:id="" action="ppaction://hlinkshowjump?jump=lastslide"/>
          </p:cNvPr>
          <p:cNvSpPr/>
          <p:nvPr/>
        </p:nvSpPr>
        <p:spPr>
          <a:xfrm>
            <a:off x="152280" y="152280"/>
            <a:ext cx="3200400" cy="792360"/>
          </a:xfrm>
          <a:custGeom>
            <a:avLst/>
            <a:gdLst>
              <a:gd name="textAreaLeft" fmla="*/ 49320 w 3200400"/>
              <a:gd name="textAreaRight" fmla="*/ 3151080 w 3200400"/>
              <a:gd name="textAreaTop" fmla="*/ 49320 h 792360"/>
              <a:gd name="textAreaBottom" fmla="*/ 743040 h 792360"/>
            </a:gdLst>
            <a:ahLst/>
            <a:rect l="textAreaLeft" t="textAreaTop" r="textAreaRight" b="textAreaBottom"/>
            <a:pathLst>
              <a:path w="87214" h="21600">
                <a:moveTo>
                  <a:pt x="0" y="0"/>
                </a:moveTo>
                <a:lnTo>
                  <a:pt x="87214" y="0"/>
                </a:lnTo>
                <a:lnTo>
                  <a:pt x="87214" y="21600"/>
                </a:lnTo>
                <a:lnTo>
                  <a:pt x="0" y="21600"/>
                </a:lnTo>
                <a:close/>
              </a:path>
              <a:path fill="lightenLess" w="87214" h="21600">
                <a:moveTo>
                  <a:pt x="0" y="0"/>
                </a:moveTo>
                <a:lnTo>
                  <a:pt x="87214" y="0"/>
                </a:lnTo>
                <a:lnTo>
                  <a:pt x="85864" y="1350"/>
                </a:lnTo>
                <a:lnTo>
                  <a:pt x="1350" y="1350"/>
                </a:lnTo>
                <a:close/>
              </a:path>
              <a:path fill="darken" w="87214" h="21600">
                <a:moveTo>
                  <a:pt x="87214" y="0"/>
                </a:moveTo>
                <a:lnTo>
                  <a:pt x="87214" y="21600"/>
                </a:lnTo>
                <a:lnTo>
                  <a:pt x="85864" y="20250"/>
                </a:lnTo>
                <a:lnTo>
                  <a:pt x="85864" y="1350"/>
                </a:lnTo>
                <a:close/>
              </a:path>
              <a:path fill="darkenLess" w="87214" h="21600">
                <a:moveTo>
                  <a:pt x="8721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85864" y="20250"/>
                </a:lnTo>
                <a:close/>
              </a:path>
              <a:path fill="lighten" w="8721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课堂提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Object 5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397160" cy="9399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3"/>
          <p:cNvGrpSpPr/>
          <p:nvPr/>
        </p:nvGrpSpPr>
        <p:grpSpPr>
          <a:xfrm>
            <a:off x="457200" y="2666880"/>
            <a:ext cx="8381880" cy="1068840"/>
            <a:chOff x="457200" y="2666880"/>
            <a:chExt cx="8381880" cy="1068840"/>
          </a:xfrm>
        </p:grpSpPr>
        <p:pic>
          <p:nvPicPr>
            <p:cNvPr id="422" name="Picture 8" descr=""/>
            <p:cNvPicPr/>
            <p:nvPr/>
          </p:nvPicPr>
          <p:blipFill>
            <a:blip r:embed="rId2"/>
            <a:stretch/>
          </p:blipFill>
          <p:spPr>
            <a:xfrm>
              <a:off x="990720" y="2744640"/>
              <a:ext cx="19922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11"/>
            <p:cNvSpPr/>
            <p:nvPr/>
          </p:nvSpPr>
          <p:spPr>
            <a:xfrm>
              <a:off x="457200" y="2666880"/>
              <a:ext cx="8381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当                    时，一元二次方程有两个相等的实数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228600" y="1143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什么值时，一元二次方程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(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两个相等的实数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85800" y="4648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：有两个不相等的实数根？没有实数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0" y="160020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请大家思考并回答以下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本节课学了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我们是用什么方法推导求根公式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你认为判别式有哪些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应用公式法解一元二次方程的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24"/>
          <p:cNvSpPr/>
          <p:nvPr/>
        </p:nvSpPr>
        <p:spPr>
          <a:xfrm>
            <a:off x="685800" y="457200"/>
            <a:ext cx="27367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归纳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533520" y="198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教科书习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第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4"/>
          <p:cNvSpPr/>
          <p:nvPr/>
        </p:nvSpPr>
        <p:spPr>
          <a:xfrm>
            <a:off x="1066680" y="533520"/>
            <a:ext cx="27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250920" y="765000"/>
            <a:ext cx="808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2280" y="3733920"/>
            <a:ext cx="87631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706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04920" y="106668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配方法解下列方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²-1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10=0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²-6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04920" y="29718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回顾思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配方法解一元二次方程的步骤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04920" y="45720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移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二次项的系数化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；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配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开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写解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6"/>
          <p:cNvSpPr/>
          <p:nvPr/>
        </p:nvSpPr>
        <p:spPr>
          <a:xfrm>
            <a:off x="250920" y="185760"/>
            <a:ext cx="561636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复习配方法，引入公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4"/>
          <p:cNvSpPr/>
          <p:nvPr/>
        </p:nvSpPr>
        <p:spPr>
          <a:xfrm>
            <a:off x="380880" y="185760"/>
            <a:ext cx="3529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导求根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内容占位符 2"/>
          <p:cNvSpPr/>
          <p:nvPr/>
        </p:nvSpPr>
        <p:spPr>
          <a:xfrm>
            <a:off x="179280" y="1268280"/>
            <a:ext cx="89647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知道，任意一个一元二次方程都可以转化为一般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b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用配方法得出它的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8000" y="1197000"/>
            <a:ext cx="9036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用你能配方法解方程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bx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0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≠0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0" y="3049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主探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-647640" y="18446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5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2981160" cy="712800"/>
          </a:xfrm>
          <a:prstGeom prst="rect">
            <a:avLst/>
          </a:prstGeom>
          <a:ln w="0">
            <a:noFill/>
          </a:ln>
        </p:spPr>
      </p:pic>
      <p:pic>
        <p:nvPicPr>
          <p:cNvPr id="280" name="Object 6" descr=""/>
          <p:cNvPicPr/>
          <p:nvPr/>
        </p:nvPicPr>
        <p:blipFill>
          <a:blip r:embed="rId2"/>
          <a:stretch/>
        </p:blipFill>
        <p:spPr>
          <a:xfrm>
            <a:off x="0" y="4365720"/>
            <a:ext cx="3168720" cy="13842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6"/>
          <p:cNvSpPr/>
          <p:nvPr/>
        </p:nvSpPr>
        <p:spPr>
          <a:xfrm>
            <a:off x="4140360" y="2637000"/>
            <a:ext cx="4800600" cy="93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移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把常数项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移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到方程的右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4211640" y="4724280"/>
            <a:ext cx="424800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把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二次项系数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化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48000" y="3141720"/>
            <a:ext cx="790560" cy="1440"/>
            <a:chOff x="3348000" y="3141720"/>
            <a:chExt cx="790560" cy="1440"/>
          </a:xfrm>
        </p:grpSpPr>
        <p:sp>
          <p:nvSpPr>
            <p:cNvPr id="284" name="Line 9"/>
            <p:cNvSpPr/>
            <p:nvPr/>
          </p:nvSpPr>
          <p:spPr>
            <a:xfrm flipH="1">
              <a:off x="3348000" y="3141720"/>
              <a:ext cx="790560" cy="144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348000" y="3141720"/>
              <a:ext cx="790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419640" y="5084640"/>
            <a:ext cx="790560" cy="1800"/>
            <a:chOff x="3419640" y="5084640"/>
            <a:chExt cx="790560" cy="1800"/>
          </a:xfrm>
        </p:grpSpPr>
        <p:sp>
          <p:nvSpPr>
            <p:cNvPr id="287" name="Line 10"/>
            <p:cNvSpPr/>
            <p:nvPr/>
          </p:nvSpPr>
          <p:spPr>
            <a:xfrm flipH="1">
              <a:off x="3419640" y="5084640"/>
              <a:ext cx="790560" cy="180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419640" y="5084640"/>
              <a:ext cx="790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Object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287960" cy="112428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3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3016080" cy="11001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5075280" y="650880"/>
            <a:ext cx="396072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配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方程两边都加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一次项系数绝对值一半的平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427280" y="1413000"/>
            <a:ext cx="649440" cy="360"/>
            <a:chOff x="4427280" y="1413000"/>
            <a:chExt cx="649440" cy="360"/>
          </a:xfrm>
        </p:grpSpPr>
        <p:sp>
          <p:nvSpPr>
            <p:cNvPr id="293" name="Line 5"/>
            <p:cNvSpPr/>
            <p:nvPr/>
          </p:nvSpPr>
          <p:spPr>
            <a:xfrm flipH="1">
              <a:off x="4427280" y="1413000"/>
              <a:ext cx="649080" cy="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427640" y="141300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6"/>
          <p:cNvSpPr/>
          <p:nvPr/>
        </p:nvSpPr>
        <p:spPr>
          <a:xfrm>
            <a:off x="5076720" y="2781360"/>
            <a:ext cx="2700360" cy="53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化简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492000" y="3068640"/>
            <a:ext cx="1584720" cy="1440"/>
            <a:chOff x="3492000" y="3068640"/>
            <a:chExt cx="1584720" cy="1440"/>
          </a:xfrm>
        </p:grpSpPr>
        <p:sp>
          <p:nvSpPr>
            <p:cNvPr id="297" name="Line 7"/>
            <p:cNvSpPr/>
            <p:nvPr/>
          </p:nvSpPr>
          <p:spPr>
            <a:xfrm flipH="1">
              <a:off x="3492000" y="3068640"/>
              <a:ext cx="1584360" cy="1440"/>
            </a:xfrm>
            <a:prstGeom prst="line">
              <a:avLst/>
            </a:prstGeom>
            <a:ln w="5724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492360" y="3068640"/>
              <a:ext cx="158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8"/>
          <p:cNvSpPr/>
          <p:nvPr/>
        </p:nvSpPr>
        <p:spPr>
          <a:xfrm>
            <a:off x="250920" y="3860640"/>
            <a:ext cx="439236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注意：学生可能不讨论而直接开方。讨论：是否能直接开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5219640" y="3860640"/>
            <a:ext cx="3600360" cy="155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0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式子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有以下三种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-504000" y="1905120"/>
            <a:ext cx="6869880" cy="942840"/>
            <a:chOff x="-504000" y="1905120"/>
            <a:chExt cx="6869880" cy="942840"/>
          </a:xfrm>
        </p:grpSpPr>
        <p:sp>
          <p:nvSpPr>
            <p:cNvPr id="302" name="TextBox 3"/>
            <p:cNvSpPr/>
            <p:nvPr/>
          </p:nvSpPr>
          <p:spPr>
            <a:xfrm>
              <a:off x="-504000" y="2122560"/>
              <a:ext cx="48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4"/>
            <p:cNvSpPr/>
            <p:nvPr/>
          </p:nvSpPr>
          <p:spPr>
            <a:xfrm>
              <a:off x="2705040" y="212256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Object 2" descr=""/>
            <p:cNvPicPr/>
            <p:nvPr/>
          </p:nvPicPr>
          <p:blipFill>
            <a:blip r:embed="rId1"/>
            <a:stretch/>
          </p:blipFill>
          <p:spPr>
            <a:xfrm>
              <a:off x="4410360" y="1905120"/>
              <a:ext cx="195552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5" name="Picture 7" descr=""/>
          <p:cNvPicPr/>
          <p:nvPr/>
        </p:nvPicPr>
        <p:blipFill>
          <a:blip r:embed="rId2"/>
          <a:stretch/>
        </p:blipFill>
        <p:spPr>
          <a:xfrm>
            <a:off x="1908000" y="404640"/>
            <a:ext cx="432144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1908000" y="2924280"/>
            <a:ext cx="3600720" cy="12160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1"/>
          <p:cNvSpPr/>
          <p:nvPr/>
        </p:nvSpPr>
        <p:spPr>
          <a:xfrm>
            <a:off x="928440" y="428616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以方程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个不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实数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Object 11" descr=""/>
          <p:cNvPicPr/>
          <p:nvPr/>
        </p:nvPicPr>
        <p:blipFill>
          <a:blip r:embed="rId4"/>
          <a:stretch/>
        </p:blipFill>
        <p:spPr>
          <a:xfrm>
            <a:off x="1332000" y="5084640"/>
            <a:ext cx="643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7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4896000" cy="1764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3"/>
          <p:cNvSpPr/>
          <p:nvPr/>
        </p:nvSpPr>
        <p:spPr>
          <a:xfrm>
            <a:off x="683640" y="4289400"/>
            <a:ext cx="517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可知方程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两个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实数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3" descr=""/>
          <p:cNvPicPr/>
          <p:nvPr/>
        </p:nvPicPr>
        <p:blipFill>
          <a:blip r:embed="rId2"/>
          <a:stretch/>
        </p:blipFill>
        <p:spPr>
          <a:xfrm>
            <a:off x="5959440" y="4081320"/>
            <a:ext cx="2500200" cy="107640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4" descr=""/>
          <p:cNvPicPr/>
          <p:nvPr/>
        </p:nvPicPr>
        <p:blipFill>
          <a:blip r:embed="rId3"/>
          <a:stretch/>
        </p:blipFill>
        <p:spPr>
          <a:xfrm>
            <a:off x="6095880" y="2286000"/>
            <a:ext cx="2643480" cy="14493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6"/>
          <p:cNvGrpSpPr/>
          <p:nvPr/>
        </p:nvGrpSpPr>
        <p:grpSpPr>
          <a:xfrm>
            <a:off x="-793080" y="2590920"/>
            <a:ext cx="6714360" cy="942840"/>
            <a:chOff x="-793080" y="2590920"/>
            <a:chExt cx="6714360" cy="942840"/>
          </a:xfrm>
        </p:grpSpPr>
        <p:sp>
          <p:nvSpPr>
            <p:cNvPr id="314" name="TextBox 3"/>
            <p:cNvSpPr/>
            <p:nvPr/>
          </p:nvSpPr>
          <p:spPr>
            <a:xfrm>
              <a:off x="-793080" y="2813040"/>
              <a:ext cx="48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4"/>
            <p:cNvSpPr/>
            <p:nvPr/>
          </p:nvSpPr>
          <p:spPr>
            <a:xfrm>
              <a:off x="2360160" y="281304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Object 2" descr=""/>
            <p:cNvPicPr/>
            <p:nvPr/>
          </p:nvPicPr>
          <p:blipFill>
            <a:blip r:embed="rId4"/>
            <a:stretch/>
          </p:blipFill>
          <p:spPr>
            <a:xfrm>
              <a:off x="3994200" y="2590920"/>
              <a:ext cx="19270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1908000" y="746280"/>
            <a:ext cx="4248360" cy="1530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7"/>
          <p:cNvSpPr/>
          <p:nvPr/>
        </p:nvSpPr>
        <p:spPr>
          <a:xfrm>
            <a:off x="792000" y="3557520"/>
            <a:ext cx="30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此方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无实数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0" y="2349360"/>
            <a:ext cx="8933040" cy="1071720"/>
            <a:chOff x="0" y="2349360"/>
            <a:chExt cx="8933040" cy="1071720"/>
          </a:xfrm>
        </p:grpSpPr>
        <p:sp>
          <p:nvSpPr>
            <p:cNvPr id="320" name="TextBox 12"/>
            <p:cNvSpPr/>
            <p:nvPr/>
          </p:nvSpPr>
          <p:spPr>
            <a:xfrm>
              <a:off x="5206680" y="26143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可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Object 4" descr=""/>
            <p:cNvPicPr/>
            <p:nvPr/>
          </p:nvPicPr>
          <p:blipFill>
            <a:blip r:embed="rId2"/>
            <a:stretch/>
          </p:blipFill>
          <p:spPr>
            <a:xfrm>
              <a:off x="6769080" y="2349360"/>
              <a:ext cx="216396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3"/>
            <p:cNvSpPr/>
            <p:nvPr/>
          </p:nvSpPr>
          <p:spPr>
            <a:xfrm>
              <a:off x="0" y="262872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4"/>
            <p:cNvSpPr/>
            <p:nvPr/>
          </p:nvSpPr>
          <p:spPr>
            <a:xfrm>
              <a:off x="2283840" y="26287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Object 2" descr=""/>
            <p:cNvPicPr/>
            <p:nvPr/>
          </p:nvPicPr>
          <p:blipFill>
            <a:blip r:embed="rId3"/>
            <a:stretch/>
          </p:blipFill>
          <p:spPr>
            <a:xfrm>
              <a:off x="3892680" y="2412720"/>
              <a:ext cx="2000160" cy="9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Object 22" descr=""/>
          <p:cNvPicPr/>
          <p:nvPr/>
        </p:nvPicPr>
        <p:blipFill>
          <a:blip r:embed="rId1"/>
          <a:stretch/>
        </p:blipFill>
        <p:spPr>
          <a:xfrm>
            <a:off x="1600200" y="3257640"/>
            <a:ext cx="4680000" cy="6285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8"/>
          <p:cNvSpPr/>
          <p:nvPr/>
        </p:nvSpPr>
        <p:spPr>
          <a:xfrm>
            <a:off x="395280" y="2708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一元二次方程的根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71400" y="3929040"/>
            <a:ext cx="77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有两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实数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636480" y="4578480"/>
            <a:ext cx="77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有两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实数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379800" y="522612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没有实数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324000" y="1125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式子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一元二次方程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判别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，通常用希腊字母“△”表示它。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0" y="-87840"/>
            <a:ext cx="1943280" cy="1544400"/>
            <a:chOff x="0" y="-87840"/>
            <a:chExt cx="1943280" cy="1544400"/>
          </a:xfrm>
        </p:grpSpPr>
        <p:sp>
          <p:nvSpPr>
            <p:cNvPr id="332" name="AutoShape 5"/>
            <p:cNvSpPr/>
            <p:nvPr/>
          </p:nvSpPr>
          <p:spPr>
            <a:xfrm>
              <a:off x="0" y="144360"/>
              <a:ext cx="936720" cy="865440"/>
            </a:xfrm>
            <a:prstGeom prst="flowChartDecision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 rot="20085000">
              <a:off x="504720" y="0"/>
              <a:ext cx="719280" cy="136836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"/>
            <p:cNvSpPr/>
            <p:nvPr/>
          </p:nvSpPr>
          <p:spPr>
            <a:xfrm rot="20085000">
              <a:off x="647280" y="39240"/>
              <a:ext cx="576360" cy="115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8"/>
            <p:cNvSpPr/>
            <p:nvPr/>
          </p:nvSpPr>
          <p:spPr>
            <a:xfrm>
              <a:off x="647640" y="73080"/>
              <a:ext cx="863640" cy="93672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9"/>
            <p:cNvSpPr/>
            <p:nvPr/>
          </p:nvSpPr>
          <p:spPr>
            <a:xfrm>
              <a:off x="1079640" y="73080"/>
              <a:ext cx="863640" cy="936720"/>
            </a:xfrm>
            <a:prstGeom prst="diamond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0"/>
            <p:cNvSpPr/>
            <p:nvPr/>
          </p:nvSpPr>
          <p:spPr>
            <a:xfrm rot="20627400">
              <a:off x="604800" y="157320"/>
              <a:ext cx="287280" cy="747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1"/>
            <p:cNvSpPr/>
            <p:nvPr/>
          </p:nvSpPr>
          <p:spPr>
            <a:xfrm rot="19005600">
              <a:off x="665280" y="134640"/>
              <a:ext cx="1364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 rot="2595600">
              <a:off x="615600" y="163080"/>
              <a:ext cx="730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 rot="19167600">
              <a:off x="750960" y="720360"/>
              <a:ext cx="14292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WordArt 14"/>
            <p:cNvSpPr/>
            <p:nvPr/>
          </p:nvSpPr>
          <p:spPr>
            <a:xfrm>
              <a:off x="289080" y="289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WordArt 15"/>
            <p:cNvSpPr/>
            <p:nvPr/>
          </p:nvSpPr>
          <p:spPr>
            <a:xfrm>
              <a:off x="1079640" y="334800"/>
              <a:ext cx="433080" cy="45720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05:19:00Z</dcterms:created>
  <dc:creator>Administrator</dc:creator>
  <dc:description/>
  <dc:language>en-US</dc:language>
  <cp:lastModifiedBy>user</cp:lastModifiedBy>
  <cp:lastPrinted>2113-01-01T00:00:00Z</cp:lastPrinted>
  <dcterms:modified xsi:type="dcterms:W3CDTF">2015-09-11T11:57:4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